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346-3DD6-438C-9A63-5B2EA515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58D-F142-4447-9C26-502159C5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96B-F9F7-460D-A84F-7198AB2D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217-BF58-4ED3-AA64-FCAE05B5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B8B-5EC8-4FD5-80FA-473F2A5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6C3-C9EB-4D4C-B81A-AFD9F8EF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0C1-A019-4D69-989E-5BEDE961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5E8-A447-46DD-83FB-BD75661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22B-A708-40FA-8CB0-A3CBF6A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E01-7F63-4539-A5E2-08EE744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195-60E6-48C6-968E-9A2FDE3D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BD5-2A26-4109-A54C-5E1C8C7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4DC-E34E-4931-91FF-322D9456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ite-Sylvite Thermoconsolutio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er, Verma, Cranswick, Clark, Jones, and Buhre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Minera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lide show shows the divergence in energy and, hence, phase composition for halite-sylvite pairs that are suddenly dropped to a lower temperature. The compositional separation that occurs with time is expected on the flanks of a solvus that widens downward in temperature. Most of the incremental separation takes place in the first hour of the time series at 4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96880" y="1166760"/>
          <a:ext cx="61502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166760"/>
                    <a:ext cx="6150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94000" y="1162080"/>
          <a:ext cx="61560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162080"/>
                    <a:ext cx="61560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94000" y="1162080"/>
          <a:ext cx="61560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162080"/>
                    <a:ext cx="61560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94000" y="1162080"/>
          <a:ext cx="61560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162080"/>
                    <a:ext cx="61560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0:42:20Z</dcterms:created>
  <dc:creator>David Walker</dc:creator>
  <dc:description/>
  <dc:language>en-US</dc:language>
  <cp:lastModifiedBy>David Walker</cp:lastModifiedBy>
  <dcterms:modified xsi:type="dcterms:W3CDTF">2004-08-19T21:14:19Z</dcterms:modified>
  <cp:revision>2</cp:revision>
  <dc:subject/>
  <dc:title>Halite-Sylvite Thermoconsolution Walker, Verma, Cranswick, Clark, Jones, and Buhre American Mineralogist</dc:title>
</cp:coreProperties>
</file>