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153-8BB9-4C34-8293-A202EF12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3B2-59CD-469B-9A73-9B9B7CEA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745-B975-42C1-9DB9-02B87092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EEA-C2B2-4A6C-9598-F2179669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721-4A93-4293-A3C4-CE6F793F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2B3-5249-4E0E-9EC2-6353BF52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A63-76AB-4556-BB01-B5A3CAD0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220-79B5-4018-A8E2-9F2D2CCD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966-F62B-41EC-939C-50B3858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577-7041-4E4E-88CC-A789569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AA0-55D7-4F82-A982-02D14B7B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4B0-1B1D-417F-AC2A-8017D941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1121-961B-4AAF-AB47-6F6DFA5EA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0040" y="2209680"/>
            <a:ext cx="560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ite-Sylvite Thermocon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ker, Verma, Cranswick, Clark, Jones, and Buh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Mineralog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nimation shows the effec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 K ion to the halite latt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dding a Schottky vaca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changes to the resulting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ppreciated by referenc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al outline, which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914400" y="1022400"/>
            <a:ext cx="4343400" cy="6216120"/>
            <a:chOff x="914400" y="1022400"/>
            <a:chExt cx="4343400" cy="6216120"/>
          </a:xfrm>
        </p:grpSpPr>
        <p:grpSp>
          <p:nvGrpSpPr>
            <p:cNvPr id="377" name=""/>
            <p:cNvGrpSpPr/>
            <p:nvPr/>
          </p:nvGrpSpPr>
          <p:grpSpPr>
            <a:xfrm>
              <a:off x="933480" y="1022400"/>
              <a:ext cx="4324320" cy="2342520"/>
              <a:chOff x="933480" y="1022400"/>
              <a:chExt cx="4324320" cy="2342520"/>
            </a:xfrm>
          </p:grpSpPr>
          <p:sp>
            <p:nvSpPr>
              <p:cNvPr id="378" name=""/>
              <p:cNvSpPr/>
              <p:nvPr/>
            </p:nvSpPr>
            <p:spPr>
              <a:xfrm>
                <a:off x="4343400" y="20700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95600" y="17841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05600" y="1022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43520" y="1098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19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013120" y="2133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33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76480" y="10792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52560" y="1060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62280" y="184140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57440" y="28317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81952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62520" y="17650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8160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933480" y="3098520"/>
              <a:ext cx="4324320" cy="2342520"/>
              <a:chOff x="933480" y="3098520"/>
              <a:chExt cx="4324320" cy="2342520"/>
            </a:xfrm>
          </p:grpSpPr>
          <p:sp>
            <p:nvSpPr>
              <p:cNvPr id="393" name=""/>
              <p:cNvSpPr/>
              <p:nvPr/>
            </p:nvSpPr>
            <p:spPr>
              <a:xfrm>
                <a:off x="4343400" y="41461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95600" y="38602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05600" y="30985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43520" y="3174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19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13120" y="4209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933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76480" y="3155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52560" y="31363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762280" y="391752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57440" y="49078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1952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62520" y="384120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8160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324680" y="62607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76520" y="597528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86520" y="52131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24440" y="5289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00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94040" y="6324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14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57400" y="527040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33480" y="525132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43200" y="6032160"/>
              <a:ext cx="53352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43440" y="595620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95520" y="80010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Halit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4172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0676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4656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13280" y="3841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32360" y="4946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324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8640" y="78138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substitution causes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17840" y="4216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43400" y="3124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494676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4340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52680" y="426708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38098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5280" y="781380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ancy relieves some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19720" y="4172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676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4656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13280" y="3841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2360" y="4946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324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8640" y="78138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substitution causes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914400" y="1022400"/>
            <a:ext cx="4343400" cy="6216120"/>
            <a:chOff x="914400" y="1022400"/>
            <a:chExt cx="4343400" cy="6216120"/>
          </a:xfrm>
        </p:grpSpPr>
        <p:grpSp>
          <p:nvGrpSpPr>
            <p:cNvPr id="544" name=""/>
            <p:cNvGrpSpPr/>
            <p:nvPr/>
          </p:nvGrpSpPr>
          <p:grpSpPr>
            <a:xfrm>
              <a:off x="933480" y="1022400"/>
              <a:ext cx="4324320" cy="2342520"/>
              <a:chOff x="933480" y="1022400"/>
              <a:chExt cx="4324320" cy="2342520"/>
            </a:xfrm>
          </p:grpSpPr>
          <p:sp>
            <p:nvSpPr>
              <p:cNvPr id="545" name=""/>
              <p:cNvSpPr/>
              <p:nvPr/>
            </p:nvSpPr>
            <p:spPr>
              <a:xfrm>
                <a:off x="4343400" y="20700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95600" y="17841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05600" y="1022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43520" y="1098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219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013120" y="2133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33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076480" y="10792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52560" y="1060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62280" y="184140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57440" y="28317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1952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62520" y="17650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98160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933480" y="3098520"/>
              <a:ext cx="4324320" cy="2342520"/>
              <a:chOff x="933480" y="3098520"/>
              <a:chExt cx="4324320" cy="2342520"/>
            </a:xfrm>
          </p:grpSpPr>
          <p:sp>
            <p:nvSpPr>
              <p:cNvPr id="560" name=""/>
              <p:cNvSpPr/>
              <p:nvPr/>
            </p:nvSpPr>
            <p:spPr>
              <a:xfrm>
                <a:off x="4343400" y="41461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695600" y="38602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05600" y="30985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43520" y="3174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219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013120" y="4209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33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076480" y="3155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52560" y="31363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62280" y="391752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657440" y="49078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1952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62520" y="384120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8160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4324680" y="62607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76520" y="597528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86520" y="52131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24440" y="5289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94040" y="6324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14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57400" y="527040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33480" y="525132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43200" y="6032160"/>
              <a:ext cx="53352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43440" y="595620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95520" y="80010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Halit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419720" y="4172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0676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4656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013280" y="3841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32360" y="4946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1324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18640" y="78138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substitution causes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17840" y="4216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343400" y="3124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494676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4340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426708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62520" y="38098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5280" y="781380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ancy relieves some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19720" y="4172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0676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34656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13280" y="3841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32360" y="4946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324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18640" y="78138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substitution causes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914400" y="1022400"/>
            <a:ext cx="4343400" cy="6216120"/>
            <a:chOff x="914400" y="1022400"/>
            <a:chExt cx="4343400" cy="6216120"/>
          </a:xfrm>
        </p:grpSpPr>
        <p:grpSp>
          <p:nvGrpSpPr>
            <p:cNvPr id="711" name=""/>
            <p:cNvGrpSpPr/>
            <p:nvPr/>
          </p:nvGrpSpPr>
          <p:grpSpPr>
            <a:xfrm>
              <a:off x="933480" y="1022400"/>
              <a:ext cx="4324320" cy="2342520"/>
              <a:chOff x="933480" y="1022400"/>
              <a:chExt cx="4324320" cy="2342520"/>
            </a:xfrm>
          </p:grpSpPr>
          <p:sp>
            <p:nvSpPr>
              <p:cNvPr id="712" name=""/>
              <p:cNvSpPr/>
              <p:nvPr/>
            </p:nvSpPr>
            <p:spPr>
              <a:xfrm>
                <a:off x="4343400" y="20700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95600" y="17841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305600" y="1022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143520" y="1098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219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013120" y="2133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933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076480" y="10792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952560" y="1060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62280" y="184140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657440" y="28317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1952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62520" y="17650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60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933480" y="3098520"/>
              <a:ext cx="4324320" cy="2342520"/>
              <a:chOff x="933480" y="3098520"/>
              <a:chExt cx="4324320" cy="2342520"/>
            </a:xfrm>
          </p:grpSpPr>
          <p:sp>
            <p:nvSpPr>
              <p:cNvPr id="727" name=""/>
              <p:cNvSpPr/>
              <p:nvPr/>
            </p:nvSpPr>
            <p:spPr>
              <a:xfrm>
                <a:off x="4343400" y="41461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695600" y="38602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305600" y="30985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143520" y="3174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19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013120" y="4209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933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076480" y="3155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952560" y="31363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62280" y="391752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57440" y="49078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81952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962520" y="384120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98160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4324680" y="62607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76520" y="597528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86520" y="52131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124440" y="5289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00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994040" y="6324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14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57400" y="527040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33480" y="525132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3200" y="6032160"/>
              <a:ext cx="53352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43440" y="595620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595520" y="80010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Halit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914400" y="1022400"/>
            <a:ext cx="4343400" cy="6216120"/>
            <a:chOff x="914400" y="1022400"/>
            <a:chExt cx="4343400" cy="6216120"/>
          </a:xfrm>
        </p:grpSpPr>
        <p:grpSp>
          <p:nvGrpSpPr>
            <p:cNvPr id="43" name=""/>
            <p:cNvGrpSpPr/>
            <p:nvPr/>
          </p:nvGrpSpPr>
          <p:grpSpPr>
            <a:xfrm>
              <a:off x="933480" y="1022400"/>
              <a:ext cx="4324320" cy="2342520"/>
              <a:chOff x="933480" y="1022400"/>
              <a:chExt cx="4324320" cy="2342520"/>
            </a:xfrm>
          </p:grpSpPr>
          <p:sp>
            <p:nvSpPr>
              <p:cNvPr id="44" name=""/>
              <p:cNvSpPr/>
              <p:nvPr/>
            </p:nvSpPr>
            <p:spPr>
              <a:xfrm>
                <a:off x="4343400" y="20700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695600" y="17841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305600" y="1022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143520" y="1098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19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013120" y="2133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933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76480" y="10792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52560" y="1060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62280" y="184140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57440" y="28317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1952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962520" y="17650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8160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933480" y="3098520"/>
              <a:ext cx="4324320" cy="2342520"/>
              <a:chOff x="933480" y="3098520"/>
              <a:chExt cx="4324320" cy="2342520"/>
            </a:xfrm>
          </p:grpSpPr>
          <p:sp>
            <p:nvSpPr>
              <p:cNvPr id="59" name=""/>
              <p:cNvSpPr/>
              <p:nvPr/>
            </p:nvSpPr>
            <p:spPr>
              <a:xfrm>
                <a:off x="4343400" y="41461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95600" y="38602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305600" y="30985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143520" y="3174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19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13120" y="4209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33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76480" y="3155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52560" y="31363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762280" y="391752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57440" y="49078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81952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62520" y="384120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8160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324680" y="62607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76520" y="597528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86520" y="52131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24440" y="5289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00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94040" y="6324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14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527040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33480" y="525132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3200" y="6032160"/>
              <a:ext cx="53352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3440" y="595620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95520" y="80010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Halit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4172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676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656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13280" y="3841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2360" y="4946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324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8640" y="78138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substitution causes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7840" y="4216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124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94676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426708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38098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5280" y="781380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ancy relieves some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172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0676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13280" y="3841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2360" y="4946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324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8640" y="78138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substitution causes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14400" y="1022400"/>
            <a:ext cx="4343400" cy="6216120"/>
            <a:chOff x="914400" y="1022400"/>
            <a:chExt cx="4343400" cy="6216120"/>
          </a:xfrm>
        </p:grpSpPr>
        <p:grpSp>
          <p:nvGrpSpPr>
            <p:cNvPr id="210" name=""/>
            <p:cNvGrpSpPr/>
            <p:nvPr/>
          </p:nvGrpSpPr>
          <p:grpSpPr>
            <a:xfrm>
              <a:off x="933480" y="1022400"/>
              <a:ext cx="4324320" cy="2342520"/>
              <a:chOff x="933480" y="1022400"/>
              <a:chExt cx="4324320" cy="2342520"/>
            </a:xfrm>
          </p:grpSpPr>
          <p:sp>
            <p:nvSpPr>
              <p:cNvPr id="211" name=""/>
              <p:cNvSpPr/>
              <p:nvPr/>
            </p:nvSpPr>
            <p:spPr>
              <a:xfrm>
                <a:off x="4343400" y="20700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95600" y="17841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05600" y="1022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43520" y="1098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19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13120" y="213336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33480" y="20890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6480" y="10792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52560" y="1060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62280" y="184140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57440" y="283176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1952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62520" y="17650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1600" y="279396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933480" y="3098520"/>
              <a:ext cx="4324320" cy="2342520"/>
              <a:chOff x="933480" y="3098520"/>
              <a:chExt cx="4324320" cy="2342520"/>
            </a:xfrm>
          </p:grpSpPr>
          <p:sp>
            <p:nvSpPr>
              <p:cNvPr id="226" name=""/>
              <p:cNvSpPr/>
              <p:nvPr/>
            </p:nvSpPr>
            <p:spPr>
              <a:xfrm>
                <a:off x="4343400" y="41461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95600" y="38602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05600" y="30985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43520" y="3174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219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13120" y="420948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33480" y="41652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76480" y="315540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52560" y="3136320"/>
                <a:ext cx="914400" cy="914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62280" y="391752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57440" y="490788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1952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62520" y="384120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81600" y="4870080"/>
                <a:ext cx="533520" cy="532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324680" y="62607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76520" y="597528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86520" y="521316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24440" y="5289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94040" y="63244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14400" y="627984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27040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33480" y="525132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200" y="6032160"/>
              <a:ext cx="53352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3440" y="5956200"/>
              <a:ext cx="533520" cy="53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520" y="80010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Halit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4172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0676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4656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13280" y="3841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2360" y="4946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1324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8640" y="78138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substitution causes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17840" y="4216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3124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494676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52680" y="426708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38098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5280" y="781380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ancy relieves some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368960" y="2070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95600" y="1784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05240" y="1022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43160" y="1098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19480" y="2089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13120" y="21081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82720" y="2038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76480" y="10796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52560" y="10605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62280" y="1841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6680" y="28321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44720" y="279396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1765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2360" y="2768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19720" y="4172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0040" y="3835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0676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95800" y="3073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4656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36800" y="4336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1960" y="4114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00160" y="3029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5480" y="31370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30360" y="4908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487044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13280" y="3841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32360" y="494676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24320" y="6261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975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324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528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94040" y="6324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628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5270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302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60325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43440" y="5956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14680" y="37274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1523880"/>
            <a:ext cx="345456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8640" y="78138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substitution causes excess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8:28:18Z</dcterms:created>
  <dc:creator>David Walker</dc:creator>
  <dc:description/>
  <dc:language>en-US</dc:language>
  <cp:lastModifiedBy>David Walker</cp:lastModifiedBy>
  <dcterms:modified xsi:type="dcterms:W3CDTF">2004-08-18T12:52:45Z</dcterms:modified>
  <cp:revision>4</cp:revision>
  <dc:subject/>
  <dc:title>No Slide Title</dc:title>
</cp:coreProperties>
</file>